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EF9C-347B-477B-9D6C-56C33E395C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5E08-6BEB-474D-9E47-1895FB7260D0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FBD-8132-43AB-A298-B99C17EF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468-514E-4C37-B8E7-37B33EEB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DE5-FA96-4053-9AF5-B8244665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A31-0404-4274-9610-F2EE0132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8325C-D557-4C43-9C85-FE04D656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B567D-AABE-485A-99BD-40B184A6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6B20D-268D-4480-91BB-2C8D934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A9EF6-68AF-488D-BE28-B3C9AC04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8E3D2-8CE8-4B5F-8B9C-A61A52C2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4D8C1-B28C-42E5-B98C-11093023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DA619-4D38-4FE9-86F3-A307D156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9D3-633B-4D64-AE6E-3731EB92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C195B-6B40-46D3-8E1E-CF75C45E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9C8CC-0CD6-455A-BB50-1A495B09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7EFED-6931-40F7-8D4B-1E763BDF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44E58-7372-4318-BE66-9D58519B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7671-ACD7-43D9-B955-DF93F68E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FBE-9801-4530-B203-EC8733C6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8FC-4845-4444-9BDA-4570BA07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80C-FA9A-48FC-96E1-4C9FC9C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32B-08F8-4F62-AA9C-84CCE156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BAF-A68C-4EDA-825C-B420AF4D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F6A-67A7-45B6-A1FD-ACA7060D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5A2-B93E-4D47-8146-1989FFF9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CEE5-E977-4952-B508-27D63E332F7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E826-986E-444C-9542-97068F46511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885080" cy="146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odríguez  La organización informativa del texto –Arco lib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2133360"/>
            <a:ext cx="6480360" cy="405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Informar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 una actividad semiológica por medio de la cual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Emisor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se dirige a un </a:t>
            </a:r>
            <a:r>
              <a:rPr b="0" lang="es-ES" sz="2800" spc="-1" strike="noStrike" u="sng">
                <a:solidFill>
                  <a:srgbClr val="ff3300"/>
                </a:solidFill>
                <a:uFillTx/>
                <a:latin typeface="Verdana"/>
              </a:rPr>
              <a:t>Destinatari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para modificar su estado de conocimiento,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trasmitiéndole datos nuevo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hablante manifiesta su intención comunicativa trasmitiendo al oyente un </a:t>
            </a:r>
            <a:r>
              <a:rPr b="0" lang="es-ES" sz="2800" spc="-1" strike="noStrike">
                <a:solidFill>
                  <a:srgbClr val="ff3300"/>
                </a:solidFill>
                <a:latin typeface="Verdana"/>
              </a:rPr>
              <a:t>mensaje o text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en adecuación a lo que sabe o no sabe el oy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1680" y="0"/>
            <a:ext cx="82152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o literari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oda la información tiene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lto nivel inform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es un tod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relaciona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como los poemas). No hay segmentos menos relevan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texto de Borges p.17 “EL cautivo”)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texto presenta, como los cuentos clásicos un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esentación, un nudo y un desenlace, con el comentari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l autor, que es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clus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Notamos que cada parte tiene relevancia inform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507520" cy="554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n un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texto publicitari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la parte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linguístic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suele ser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mínima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en anuncios y televisión, por lo tanto muy pensada y motivada, en estrecha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relación con las imáge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Nuevo climatizador ROCA.Mejor fresco que frí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n textos publicitarios por correo, la parte escrita es mucho mayor pero el lenguaje es igualmente incisivo, con frases en negrita, interrogaciones y exclam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3200" spc="-1" strike="noStrike">
                <a:solidFill>
                  <a:srgbClr val="ff3300"/>
                </a:solidFill>
                <a:latin typeface="Verdana"/>
              </a:rPr>
              <a:t>texto coloquial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n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lleva un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organización planead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hay interrupciones, reiteraciones, un interlocutor puede ayudar al otro a expresarse mej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ara dar informaciones su usa la subjetiv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9680" y="475920"/>
            <a:ext cx="8186760" cy="60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LA MICROESTRUC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llama así el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conjunto de elementos 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componen los enunciad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uncia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u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segmento informativ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mitido por un hablante a un oyente(cambia con el cambio de los sujetos discursivos). Es enunciado un breve dialogo como una novela o un tratado cientif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diferente uso de los varios  elementos supone una diferencia inform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285840"/>
            <a:ext cx="8505720" cy="625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el caso de un enunciado co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aciones cort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cada oración tiene su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arg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formati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el oyente (o lector) percibe todas las informaciones. (p.3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posición de la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aus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, pues, muy rentable informativamen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 muestra claramente el lenguaj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ublicitari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que usa una economía de medios para concentrar la   información y la atención de quien lo recib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42960" y="333360"/>
            <a:ext cx="8043840" cy="623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Tahoma"/>
              </a:rPr>
              <a:t>La Enunci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Frecuentemente usamos elementos que sirven de marcadores discursivos. Son los llamados “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poyos enunciativos”,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vamos, hombre, te diré, hablando con franqueza..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st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laman la aten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sobre lo que quiere decir el hablante. Caso especifico es la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reformulacio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p.4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 igual modo los element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pel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ienen un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unción de focalización: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mire usted, me entiende?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71680" y="979200"/>
            <a:ext cx="8115120" cy="580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 MOD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y much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dverbi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marcan modalidad, reafirman lo dicho, y, por lo tanto, focalizan esa información sobre el resto (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sin lugar a dudas, yo creo, claro, lógicamente, en realidad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on los “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poyos modales”,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muy abundantes en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versación cotidian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necesarios para la interacc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147160" cy="403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tre los element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ocalizador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, la construcción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es 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iene un claro valo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se presenta como un argumento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justifica lo anter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veces se une con </a:t>
            </a:r>
            <a:r>
              <a:rPr b="1" i="1" lang="it-IT" sz="3200" spc="-1" strike="noStrike">
                <a:solidFill>
                  <a:srgbClr val="ffffff"/>
                </a:solidFill>
                <a:latin typeface="Tahoma"/>
              </a:rPr>
              <a:t>lo que pasa es que, lo que ocurre es que, la verdad es qu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9680" y="714240"/>
            <a:ext cx="8186760" cy="530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OS INCI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un enunciado podemos encontrar segmentos que aparecen intercalad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Un ejemplo son la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aciones de rel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xplicativ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Juan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había venido tarde, se enfadó muc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djetivos: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Juan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cansad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de esperar, se fue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85480" y="285480"/>
            <a:ext cx="8434440" cy="618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S ESTRUCTURAS PARENTE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structura parentética se presenta como un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formación adicion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no pretendida, que debería ser secundaria, pero, al aparece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rumpien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una secuencia sintáctica, se focaliza más,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voca más curiosidad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Mi vecina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¡qué horror!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Tiene ocho perros en ca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iologí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una de las ciencias que forman parte del estudio de la comunicación ya que  analiza los diferentes tipos de símbolos y signos producidos por el ser humano para comunicars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99680" y="475920"/>
            <a:ext cx="8186760" cy="60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CEDIMIENTOS COHE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l latin cohaesum. Implica que las oraciones estén vinculadas por elementos que establecen relaciones seman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Verdana"/>
              </a:rPr>
              <a:t>Deixis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Función de ciertos elementos lingüísticos que señalan algo que se ha dicho o se va a decir en el discurso, en el espacio o tiemp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or ej. </a:t>
            </a:r>
            <a:r>
              <a:rPr b="0" lang="it-IT" sz="3200" spc="-1" strike="noStrike">
                <a:solidFill>
                  <a:srgbClr val="ff3300"/>
                </a:solidFill>
                <a:latin typeface="Verdana"/>
              </a:rPr>
              <a:t>este, ese</a:t>
            </a:r>
            <a:r>
              <a:rPr b="0" lang="it-IT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0" lang="it-IT" sz="3200" spc="-1" strike="noStrike">
                <a:solidFill>
                  <a:srgbClr val="ff3300"/>
                </a:solidFill>
                <a:latin typeface="Verdana"/>
              </a:rPr>
              <a:t>aquel, </a:t>
            </a:r>
            <a:r>
              <a:rPr b="0" lang="es-ES" sz="3200" spc="-1" strike="noStrike">
                <a:solidFill>
                  <a:srgbClr val="ff3300"/>
                </a:solidFill>
                <a:latin typeface="Verdana"/>
              </a:rPr>
              <a:t>hoy, aquí, esto,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que tienen significado sólo si insertados en su contexto comunicati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piti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Reiterando el mismo segmento le d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ás importanci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lo dej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ijado en la m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l recep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textos p.65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8002440" cy="525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os Conector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 sirven par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ganiz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l discurso y pueden s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denador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l discurs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primero, segundo, por una parte, por otra,  últim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pul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unen segmentos equifuncional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se añaden. Pueden se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m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 la conjunción “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ro hay otros elementos, generalmente adverbios, que tienen la misma función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uni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unciados (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También,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además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estos casos, generalmente, se resalta el segundo ele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9152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dvers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la relación adversativa pertenece a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tr-argument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establece una jerarquización informativa entre sus miembr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Juan ha estado en casa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per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no hemos hablado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hecho más importante es el introducido por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er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Lo mismo ocurre con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sin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 quiero café,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sin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leche.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6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y también otr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nex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calca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gunda inform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como: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ahora bien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más frecuente en los textos formales)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ahor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 más empleado en lo coloquial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tros elementos con la misma función son: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lo que pasa es que, lo que ocurre es que, la realidad es que, lo cierto es que.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ces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ando la relación concesiva se expresa  con una conjunción y relaciona oraciones,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l hecho más significativo está en la princip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Aun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no me apetece, te aco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mpañar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362800" cy="46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aus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los más frecuentes son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ya que, puesto que, como,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que generalmente aparecen en posic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ntepuest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por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que aparec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ospuest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Com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no podía comer, fui al dentis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Fui al dentista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porqu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no podía comer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tro conecto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aus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: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de hech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salt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un argumento com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form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nue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 focalizada y se usa generalmente en el lenguaje cul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 hay libertad en la isla.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De hecho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hay cientos de presos polític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aus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también :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efectivam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reitera y resalta lo dic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 tengo un céntimo.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Efectivament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tengo que pedir un préstam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mbos (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de hecho y efectivam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) se usan en el lenguaj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ult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42320" cy="396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iologí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entendida en muchos casos como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quival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ió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abe señalar que no se debe confundir los conceptos de semiótica y semiología con el de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án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218440" cy="475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TRUCTURA ARGUMENT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llevar el oyente a ciertas conclus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l hablante trata de convencer al oyente a adoptar cierto punto de vista,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decir trata de manipular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tructur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a argumentación consta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clusion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147160" cy="46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s argumentos pueden esta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-orientados: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levan a la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 misma conclus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; 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nti-orientados: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levan a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 conclusiones opues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ara ello es necesaria un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base argumentati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llamad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op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) o sea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ocimiento compartido de los hablantes en el acto comunicati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99680" y="333360"/>
            <a:ext cx="818676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squema es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 argumento- top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 base argumentativa – conclus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argumentación puede usarse co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ines diferent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xplicar- justificar – oponerse a otro – rechaz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gunos autores recogen las diferentes funciones argumentativas e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bjeción – contraposición – reafirm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91520" cy="561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argumentación es much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ás eficaz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una simple afirmació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-  Uno de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cedimient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a argumentación e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arti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algo que se plantea com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clus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lueg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demostrarlo con un  argumento, una prue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Ejemplo : no veo bien abortar (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si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) [porque]-(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): se ha comprometido y un hijo es muy bonito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147160" cy="547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tra estructura e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rgumento - conclus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. Esta aparece a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in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como cier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-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rcer mo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resaltar una información es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traposi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no se ofrece en posi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través de una afirmac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ino rechazando la postura contrari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Se trata de una visión más reflexiva, más argumenta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Se trata de un procedimiento habitual en el lenguaje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hablado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coloquial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, en el cual se expresa la opinión personal contraponiéndola a la de ot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(texto p.9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tra manera para argumentar es a través del uso de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apelativos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, que el emisor dirige al oyente para pedir su colaboración o su aceptación de lo que está diciendo.(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imagínate tú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La misma finalidad la desarrollan los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apoyos modales (no? Verdad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tro procedimiento usado para destacar una información es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reafirmando los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argumentos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ara ello se usan adverbios co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Efectivamente, evidentemente, ciertamen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20" y="1071360"/>
            <a:ext cx="8329680" cy="494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La estructura para este tipo de procedimiento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Planteamiento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de una conclusión de forma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hipotética o interrogativa indir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Reafirmación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con adverbios como </a:t>
            </a:r>
            <a:r>
              <a:rPr b="1" i="1" lang="it-IT" sz="3200" spc="-1" strike="noStrike">
                <a:solidFill>
                  <a:srgbClr val="ff3300"/>
                </a:solidFill>
                <a:latin typeface="Tahoma"/>
              </a:rPr>
              <a:t>en</a:t>
            </a:r>
            <a:r>
              <a:rPr b="1" i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it-IT" sz="3200" spc="-1" strike="noStrike">
                <a:solidFill>
                  <a:srgbClr val="ff3300"/>
                </a:solidFill>
                <a:latin typeface="Tahoma"/>
              </a:rPr>
              <a:t>efecto</a:t>
            </a:r>
            <a:r>
              <a:rPr b="1" i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prosecución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con el </a:t>
            </a: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argumento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que lo apoy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28400" y="907560"/>
            <a:ext cx="8258040" cy="545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 organización textual y discurs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s manifestaciones más típicas de la oralidad so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dialogal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con dos o más interlocutores, puesto que la característica del discurso oral es que constituye una “acción entre individuos”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 hecho también en los discurs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onologal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o monogestionados) hay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actividad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400" y="357120"/>
            <a:ext cx="8258040" cy="566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inguís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se utiliza más la palabr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án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porque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án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una ciencia que estudia los significados de los signos pero sólo e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municaciones escritas (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y humanas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semiótica (o semiología)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tudia la comunicac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crita y oral en gener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( y también todos los signos -incluyendo los que usan los animales en sus expresion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Una primera manera para acercarse al diascurso dialogal es analizar como se organizan las tres secuencias básicas: </a:t>
            </a:r>
            <a:r>
              <a:rPr b="1" lang="es-ES" sz="3200" spc="-1" strike="noStrike" u="sng">
                <a:solidFill>
                  <a:srgbClr val="ff3300"/>
                </a:solidFill>
                <a:uFillTx/>
                <a:latin typeface="Tahoma"/>
              </a:rPr>
              <a:t>Inicio – Desarrollo – Fi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075520" cy="547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aber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ici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rmin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un diálogo presupone un grado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mpetencia or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levad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cuerp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entr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má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flexibl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Analicemos un debate tipo </a:t>
            </a:r>
            <a:r>
              <a:rPr b="1" i="1" lang="es-ES" sz="3200" spc="-1" strike="noStrike">
                <a:solidFill>
                  <a:srgbClr val="ff3300"/>
                </a:solidFill>
                <a:latin typeface="Tahoma"/>
              </a:rPr>
              <a:t>talk show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se basa en la consideración de tres dimensio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locutiva – temática – enunci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85840" y="928800"/>
            <a:ext cx="8400960" cy="50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dimens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locuti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iene en cuenta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pacio interlocu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cupado,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anera de tomar la palabra y de pasar el tur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s muy útil para entender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ape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munic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sarrollado por los participan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99680" y="785520"/>
            <a:ext cx="8186760" cy="52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or ejemplo una persona qu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ervien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uch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er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cupando poco tiemp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s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autoseleccion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interviene después de una pausa o interrumpiendo, desempeñ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apeles de pregunt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validación corresponde con el 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oderado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un debate o con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feso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dimens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má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actuación de los interlocutores respecto 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 construcción temátic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 el tipo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contribución que realiza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su papel respecto a la propue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147160" cy="46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dimensió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unciativ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tiende por una parte a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osi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os interlocutore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specto a lo que dice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, por otra parte, a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recursos discursivo-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ual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que us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85840" y="571680"/>
            <a:ext cx="8400960" cy="544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urante una clase 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ofesor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toma la palabr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ás vec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ero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brevem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su papel es ordenar, corregir, sancionar, pregunt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tudiant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en cambio, interviene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ocas veces  con intervenciones más larga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y su papel es responder, explicar, describir, dar cuenta de sus lectur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estilo de la profesora es lacónico y directo para que hablen los estudiantes. Los estudiantes intentan elaborar sus respuestas, ya que saben que es éste que se espera de ell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8400960" cy="55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STRUCTURA TEX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structura del texto depende de su </a:t>
            </a:r>
            <a:r>
              <a:rPr b="1" lang="es-ES" sz="3200" spc="-1" strike="noStrike" u="sng">
                <a:solidFill>
                  <a:srgbClr val="ff3300"/>
                </a:solidFill>
                <a:uFillTx/>
                <a:latin typeface="Tahoma"/>
              </a:rPr>
              <a:t>macroestructur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 sea la  división e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árraf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1" lang="es-ES" sz="3200" spc="-1" strike="noStrike" u="sng">
                <a:solidFill>
                  <a:srgbClr val="ff3300"/>
                </a:solidFill>
                <a:uFillTx/>
                <a:latin typeface="Tahoma"/>
              </a:rPr>
              <a:t>superestructura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o sea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ipo de tex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ada tipo de texto tiene un modelo de presentación de la informació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9680" y="333360"/>
            <a:ext cx="818676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un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o periodístic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orden informativ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los párrafos e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iramidal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: de mayor a menor importanc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itular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xpresan las noticias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ayor pes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 También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ágin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n que aparece el artículo da una idea del valor que el periódico le da. Muchas veces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isma notici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s referida de maner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diverg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no porque no se digan las mismas cosas, sino porque s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jerarquiza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modo diferente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y esto lleva a diferentes conclus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sto se puede notar si se compara cómo refieren la misma noticia  dos periodicos de diferente orientación política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ambién la elección de las </a:t>
            </a:r>
            <a:r>
              <a:rPr b="0" lang="it-IT" sz="3200" spc="-1" strike="noStrike">
                <a:solidFill>
                  <a:srgbClr val="ff3300"/>
                </a:solidFill>
                <a:latin typeface="Tahoma"/>
              </a:rPr>
              <a:t>imágenes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contribuye a focalizar la atención del lector sobre distintos apectos del mismo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os expositiv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 ofrece una informac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ordenad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ej. un prospecto de medicament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instrucciones de uso de un electrodoméstic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99680" y="785520"/>
            <a:ext cx="8186760" cy="52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los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xtos argumentativ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el orden es :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Introducción – Argumentos – Conclusión.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ime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árrafo llev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la información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preparatori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últim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la </a:t>
            </a: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tesis defendida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o sea lo más relev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( “Más serio que un juez” p.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7:00:09Z</dcterms:created>
  <dc:creator>User</dc:creator>
  <dc:description/>
  <dc:language>en-US</dc:language>
  <cp:lastModifiedBy>Lau</cp:lastModifiedBy>
  <dcterms:modified xsi:type="dcterms:W3CDTF">2011-12-21T14:35:12Z</dcterms:modified>
  <cp:revision>23</cp:revision>
  <dc:subject/>
  <dc:title>Rodríguez  La organización informativa del texto –Arco libros</dc:title>
</cp:coreProperties>
</file>